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27A-49B8-4929-A7A9-21713329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D3D-C322-4F53-99E8-603E7E72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FB0-24D9-419E-93D6-0A924137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F51-B190-44A3-9CBD-2B1A3877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CCC-51CE-44E1-8F27-EF3E938A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074-546B-4F29-A0F4-1D6E5954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44A-0085-4304-90CB-E6CCB05E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7FE-37C2-4265-87E8-A0D25EBA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7C6-4379-4F0E-B4B5-9D0372FD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BF7-9D70-4108-9F9D-E335840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5D05-3745-4668-9FBE-20BCCADA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2ACB-C762-4C9B-9D12-CEB1C89A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8A80-5AC4-471C-A6AD-1E75DE993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-1295280"/>
            <a:ext cx="6657840" cy="88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0:56:32Z</dcterms:created>
  <dc:creator>Curtis Ranweiler</dc:creator>
  <dc:description/>
  <dc:language>en-US</dc:language>
  <cp:lastModifiedBy>Curtis Ranweiler</cp:lastModifiedBy>
  <dcterms:modified xsi:type="dcterms:W3CDTF">2011-08-31T20:57:04Z</dcterms:modified>
  <cp:revision>1</cp:revision>
  <dc:subject/>
  <dc:title>Slide 1</dc:title>
</cp:coreProperties>
</file>